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164-3290-4399-94B3-1A8BBCDD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0CA-65EF-4208-B28F-E22BF9C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435-18A4-4134-8240-E906E78D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E82-3215-475C-AB97-8309C02A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2CC2-5C7E-42CF-BF5F-D2BF7F16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6D4-7702-473F-8A13-59429249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E36F-FFC9-4E4E-9827-69E8E19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C39-8F41-4384-988A-0BE2C34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1468-A746-449C-9F0F-90A6BF20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13C9-0766-4847-9620-865F472D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61D-5587-43BB-99F4-97C8A95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568-9AEF-49C3-92F7-50273E5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6ED-B4BF-4199-8E8B-32A5B9E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0744-6B64-4303-9FC9-377D81C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50DF-875B-4C7C-8BB0-F2BFA8F9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CF91-7133-4B58-94AC-FAFA6546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3D0B-1680-438E-9C52-311B6B84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179-5118-4F60-A2AF-14A0A76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FDD-19C2-4A5B-B220-1D290C49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C38-9143-4946-921A-B3440808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9C7-1FB7-46B6-84FE-B3FBD7E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08B-E227-4770-B867-76DB37D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E76-B7CF-409E-B44A-4D9B3C1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3A3-365F-4AA6-84AD-5804DF4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951-F484-4896-BDB2-1B7327A9B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5941-74A5-47C4-BC74-A47B1C32F5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AM is an integral part of most So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utomate SRAM desig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7F4-4D8A-40FE-9D52-9978909C5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590920"/>
            <a:ext cx="2057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ematic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52578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514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502920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579600" cy="663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447920" y="28195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00400" y="289512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4520" y="327672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962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ignpa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43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9568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419720"/>
            <a:ext cx="32767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5105160" cy="4724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adence SK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65D-6F00-4C16-BA9C-BC5FDA436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45E-7C16-4A62-84B3-30D51307B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ble leaf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Vias programmed in SKILL for decoder/WL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87960" cy="200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5521320" cy="250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44920" y="5815080"/>
            <a:ext cx="30492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8440" y="5149800"/>
            <a:ext cx="30456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2590920"/>
            <a:ext cx="2895840" cy="9144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05320"/>
            <a:ext cx="1676520" cy="16761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4724280"/>
            <a:ext cx="11430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d by SRAM optimi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638680"/>
            <a:ext cx="4038480" cy="0"/>
          </a:xfrm>
          <a:prstGeom prst="line">
            <a:avLst/>
          </a:prstGeom>
          <a:ln w="1908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382-C1C3-48A5-ACED-AE4E0B475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ting by abu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971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aking care of internal to lea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al between two leaf cells – E.g. WL between WL Driver and Bit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32004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124080" y="32004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AA4-7AF3-4A3D-BAB4-30143B7A8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48040" y="2438280"/>
            <a:ext cx="1243080" cy="1792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309760" y="3352680"/>
            <a:ext cx="11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2240" y="5257800"/>
            <a:ext cx="2249640" cy="1149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9536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column circuitry layouts gene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6240" y="3008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, Col-mux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85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4824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-mux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07240" y="536580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43320" y="548640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082920" y="2971800"/>
            <a:ext cx="69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2920" y="3048120"/>
            <a:ext cx="6922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9440" y="2895480"/>
            <a:ext cx="1600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6E7-4EF9-4403-B7D4-C2DDD63EA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chematic-generation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-cell layout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level layout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/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generation (FreePD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T-RAM (Anura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+ Layout generation (ST 6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-leakage cancelling SA (Sudhans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-ended SA (Jo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989-E152-4CBD-B549-1D9A88FE2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ng leaf-cell layout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-cell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optimizer with SRAM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rite optimizer output to con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uman interven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mprove user/technology-in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317-EAF1-49FB-838B-3D5563721B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24:43Z</dcterms:created>
  <dc:creator>uva</dc:creator>
  <dc:description/>
  <dc:language>en-US</dc:language>
  <cp:lastModifiedBy>uva</cp:lastModifiedBy>
  <dcterms:modified xsi:type="dcterms:W3CDTF">2010-04-21T23:16:38Z</dcterms:modified>
  <cp:revision>43</cp:revision>
  <dc:subject/>
  <dc:title>SRAM Generator</dc:title>
</cp:coreProperties>
</file>